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F2ED-BAF7-4356-9A7D-4BFA576B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C9A6-4C06-43C4-8982-4F2553E1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1CDC-8BBF-4277-A298-B46089B5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2AF-A60D-4637-B97D-6775CD33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CA0-4DC7-4F08-969D-CF6A329C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E51-3639-4688-9959-200DD321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09E-1895-4DEA-953D-9832ADD7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28D-5B9A-4D87-B5DC-416749BD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59B-5035-4C5B-837E-D6E4CADE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0F8-B50B-4AA9-9628-33DA2B77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358A-46AC-4168-B87A-69623005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D3F-BA77-42BE-8670-655167CF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62B9-F8CC-43CF-BAE8-0E98E0A65E8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39E9-ECFA-4AD6-B1A8-37913EB698E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فعالية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كموصل جيد للمعلو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81200" y="2809800"/>
          <a:ext cx="7772400" cy="839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809800"/>
                    <a:ext cx="7772400" cy="83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6224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56C-174F-4AAA-92A5-EBE5A5CA79FA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2311560"/>
          <a:ext cx="8353440" cy="83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11560"/>
                    <a:ext cx="8353440" cy="83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018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B9E9-A1AE-45ED-9EEB-CFF8DADD243B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1760" y="2434320"/>
            <a:ext cx="7534800" cy="30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شمولية (الحد الأدنى من المعلومات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اعتماد المستفيدين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قراءة كل جزء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فهم محتويا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81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ؤشرات فعالية التقارير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0D5-A410-47AB-9459-4AB27DBCE0A5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4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 (العرض والافصا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de7b1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ا هو الافصاح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معلومات المهمة للمستفيدين من التقارير المالية بطريقة تساعد على التنبؤ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و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قوائم المالية بكل وضوح طبقا للمبادئ المحاسبية المتعارف عل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98BB-B627-48DF-80F1-202DEAA16207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ية العرض والإفص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حقق عدد من المزاي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مداد المستفيدين بالمعلومات عن المنشأة أو المشروع وبالتالي ترشيد عملية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خدام الموارد الاقتصادية المتاحة بكفاءة وفعالية، بمعنى آخر يساعد على تخصيص وإعادة تخصيص الموارد بين المنشآت ال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4E52-6715-4EE8-9CA3-D069BF0FE580}" type="slidenum">
              <a:t>4</a:t>
            </a:fld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736200"/>
            <a:ext cx="7772760" cy="835200"/>
          </a:xfrm>
          <a:prstGeom prst="rect">
            <a:avLst/>
          </a:prstGeom>
          <a:solidFill>
            <a:srgbClr val="fde7b1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افص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7640" y="2185200"/>
            <a:ext cx="2182320" cy="96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48680" y="2257920"/>
            <a:ext cx="1960920" cy="894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0360" y="3971880"/>
            <a:ext cx="2514600" cy="212112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قتص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ي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انونية (قوانين الشركات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997440"/>
            <a:ext cx="2514600" cy="209556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55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لائمة المعلومات لاتخاذ القرارات (خصائص المعلومات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2600" y="4016520"/>
            <a:ext cx="2590560" cy="207648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جم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داول الاس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3480" y="2133720"/>
            <a:ext cx="22860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308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3206880"/>
            <a:ext cx="646200" cy="72684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3720" y="3213000"/>
            <a:ext cx="601920" cy="792360"/>
          </a:xfrm>
          <a:prstGeom prst="downArrow">
            <a:avLst>
              <a:gd name="adj1" fmla="val 50000"/>
              <a:gd name="adj2" fmla="val 3291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2080" y="3213000"/>
            <a:ext cx="601560" cy="792360"/>
          </a:xfrm>
          <a:prstGeom prst="downArrow">
            <a:avLst>
              <a:gd name="adj1" fmla="val 50000"/>
              <a:gd name="adj2" fmla="val 32929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B40-0E90-47ED-8878-7CD7759F773F}" type="slidenum">
              <a:t>5</a:t>
            </a:fld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920" y="1819440"/>
          <a:ext cx="9304200" cy="83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819440"/>
                    <a:ext cx="9304200" cy="83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19920" y="63849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1DB-BB98-4307-A252-585B8505BA4F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6560" y="2860560"/>
          <a:ext cx="8498160" cy="80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860560"/>
                    <a:ext cx="8498160" cy="80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3496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556-2CE6-4B58-85E8-09D5C9C18B3E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2300400"/>
          <a:ext cx="8424720" cy="84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00400"/>
                    <a:ext cx="8424720" cy="84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FEF-3E29-46D5-B291-E25EED1CE2F2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2133720"/>
          <a:ext cx="8136000" cy="83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136000" cy="83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2AF4-7A89-43FA-A076-E45B828124B8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3:05:20Z</dcterms:modified>
  <cp:revision>28</cp:revision>
  <dc:subject/>
  <dc:title>التحليل المالي والائتماني</dc:title>
</cp:coreProperties>
</file>